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15F-B049-4A95-8477-8706796C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012-9638-42E4-99C3-EE4FD96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090-34F3-4AA5-AEE8-F7AF6256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F7D-421F-4C68-A028-2F48DCDA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DB1A-64A5-4B7A-AA56-135093EB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2511-03FF-4D50-91E1-1C0803C5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C40D-9503-4AEA-A2A0-D916DBCE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21A-C42D-4598-B46C-5A266D48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6B46-F28D-4A09-9402-8201C5E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B129-5F40-40D6-808C-C2841638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F563-79A5-4E7A-9AC8-271237CE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B59-C6A3-4216-A7B7-467477B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4CC3-C465-49E1-8273-DD9581A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81F5-9339-44CB-AC20-A30E8B94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204B-7712-449D-9CF0-DBB8D3BA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DDB9-5BA6-48C0-AAC8-8C7223A0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7F77-9D90-420D-BDCE-EE77AEBC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09F-A623-43B3-BDD5-BE826A27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FEC-B17D-4E3F-A4EC-A52E1A2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C30-BAF8-4DB3-980B-CBD823FE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A1B-BED1-4BD6-A9EA-405D4E8D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A23-A004-4CC4-B7E3-DA8BF12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E1F-65A8-411F-BEEE-42648E93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303-6488-427F-A3E5-943E9B6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4287-0EF8-49A8-9B4E-E5E7573241F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0D19-33A3-49E1-8C46-896FFA3E9829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dddddd"/>
                </a:solidFill>
                <a:latin typeface="Century Schoolbook"/>
              </a:rPr>
              <a:t>The Legislative  Branch</a:t>
            </a:r>
            <a:endParaRPr b="0" lang="en-US" sz="66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4266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Schoolbook"/>
              </a:rPr>
              <a:t>The United States Congress</a:t>
            </a:r>
            <a:endParaRPr b="0" lang="en-US" sz="7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01" name="j0144813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5066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Members of the Senate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There are ___ Senators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at are the qualifications to run for a Senate sea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long do they serv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is the Senate different from the House?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Elections for Congress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54864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House is an “ever-changing” body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enate is a “continuous” body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733920"/>
            <a:ext cx="342900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343400"/>
            <a:ext cx="350532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952880"/>
            <a:ext cx="3429000" cy="381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971800"/>
            <a:ext cx="99072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106704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971800"/>
            <a:ext cx="106668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971800"/>
            <a:ext cx="106668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2971800"/>
            <a:ext cx="99072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2971800"/>
            <a:ext cx="91440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3733920"/>
            <a:ext cx="320040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4952880"/>
            <a:ext cx="1600200" cy="381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343400"/>
            <a:ext cx="274320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What are key restrictions on members of Congress?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 member of Congress cannot at the same time be in any other branch.  Why?  What is the one exception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Members of Congress can be “disciplined” if they are bad.  How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What are key restrictions on members of Congress?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42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Every Congressperson’s vote counts 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entury Schoolbook"/>
              </a:rPr>
              <a:t>one vote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, no more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No single house can make a law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entury Schoolbook"/>
              </a:rPr>
              <a:t>Both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houses must pass a bill, then the president must sign it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(More on this later!)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Legislative Branch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3200" y="2246400"/>
            <a:ext cx="8650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It makes laws and is most directly connected to the people and their interests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U.S. Constitution – mostly in Article I – describes all the things it c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Schoolbook"/>
              </a:rPr>
              <a:t>and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cannot do!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Legislative Branch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5345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Vested in Congress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y meet in the Capitol Building in Washington D.C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onsidered the “first” branch. 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entury Schoolbook"/>
              </a:rPr>
              <a:t>Two houses:  The House of Representatives and Senate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apitol" descr=""/>
          <p:cNvPicPr/>
          <p:nvPr/>
        </p:nvPicPr>
        <p:blipFill>
          <a:blip r:embed="rId1"/>
          <a:stretch/>
        </p:blipFill>
        <p:spPr>
          <a:xfrm>
            <a:off x="380880" y="958680"/>
            <a:ext cx="8153640" cy="5899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Bicameral Legislature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use of Representatives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67280" y="2133720"/>
            <a:ext cx="2362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Senate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3124080"/>
            <a:ext cx="914400" cy="83844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124080"/>
            <a:ext cx="914400" cy="83844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Mall in Washington D.C.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pic>
        <p:nvPicPr>
          <p:cNvPr id="113" name="mall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921120" cy="477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43800" y="1371600"/>
            <a:ext cx="16002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3080" y="2209680"/>
            <a:ext cx="1524240" cy="1752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6019920"/>
            <a:ext cx="5334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6172200"/>
            <a:ext cx="28195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uprem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Who represents whom?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Hous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Senat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President 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Supreme Cour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242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peopl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states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country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U.S. Constitution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Members of Congress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440"/>
            <a:ext cx="8650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many are ther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do they get there?  And what is the most important factor in winning a Congressional sea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en does their meeting star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at do they get?  (Salary, privileges, benefits, expenses…)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23" name="PE01561_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743200" cy="182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Members of the House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There are ___ U.S. Representatives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at are the qualifications to run for a House sea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long do they serv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is the House different from the Senat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29" name="map03" descr="Apportionment of the U.S. House of Representatives for the 108th Congress"/>
          <p:cNvPicPr/>
          <p:nvPr/>
        </p:nvPicPr>
        <p:blipFill>
          <a:blip r:embed="rId1"/>
          <a:stretch/>
        </p:blipFill>
        <p:spPr>
          <a:xfrm>
            <a:off x="304920" y="-28440"/>
            <a:ext cx="8610480" cy="688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6:50:39Z</dcterms:created>
  <dc:creator>User</dc:creator>
  <dc:description/>
  <dc:language>en-US</dc:language>
  <cp:lastModifiedBy>WCHS</cp:lastModifiedBy>
  <dcterms:modified xsi:type="dcterms:W3CDTF">2006-07-18T15:37:52Z</dcterms:modified>
  <cp:revision>26</cp:revision>
  <dc:subject/>
  <dc:title> The Legislative  Branch</dc:title>
</cp:coreProperties>
</file>